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1F066-D384-4A0F-9CB5-3788E4795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E012E-65AE-49E1-ADAA-6CB08EFE31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0B70-2FD2-46FA-8509-161BDF9F5E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536AF-D0E8-44BD-9230-4CA8F7AB30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5E3BB-DC24-4B3A-9360-83E8C95489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4A389-D198-4659-8901-D63B2B08DB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1A88C-46AB-4EA7-9C74-8A86DF1D38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185E-1C03-43B1-9CA8-420194229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0B97-4126-4B86-8D32-B5CA316A4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D2B9-B5AC-4543-9F4B-9EDF6EBF7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3F5C-DCBC-48BE-93AD-82C3CC5DE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5A3E-B5BE-4555-A41D-543012BED7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85CA7-9604-4858-AEB0-603A3992C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03E66-F084-4E13-BF6A-D2FF08416B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04F57-B153-4B33-8E52-E9FCDEE19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EAB1-B337-443B-958F-66CD2A38FA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A08EB-BE16-4C48-ADD9-2EBB4C65AE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8CF11-681E-430A-A25F-2F04E54D5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ADEC-5121-4028-9684-B463C8C9A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F82EA-CDE7-4CF3-9509-2D7A7ACE0C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42283-64B4-47CD-89A7-DBBFA72EEA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BF5EE-003B-49F9-A230-067EAFA07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BB07E-FB30-463F-B53F-8266615016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B90B-A6FC-4C97-A60D-EF8009D93A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9D1D-7ADB-40BB-BD23-A915FD9680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0A22-D165-4E68-87D6-CF01FACF7A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A8B-BA9A-482A-BEB2-45952B3803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ECD7-3721-4430-994E-50BD9EAC7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E171-0738-4888-86AE-93430502F7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9EE0-C091-48B5-AF89-6092ADA741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1F53-E8A0-4412-9D53-ED3F9B76DB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936F-DEF3-4D1F-81ED-536BF7083D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A08-FF6A-42D9-81BF-C78870B743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154-1840-47F7-9A5F-FF8213CA89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AB9-5EB5-4372-840E-CBD9F3569C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8C0F-F0EB-4D63-B393-5977A7A841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3B6-00CD-4441-8F2C-18B644265F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9727-82CE-4140-8255-388385BAA8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C2D11-A058-4177-ACBA-0C55F4443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7F0E-1B16-422A-AC94-2F4BA17822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A7E5E-5C39-4AF3-B093-87B502CAA0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83FC0-CE35-48DC-89EE-BA977851CB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9F1F3-2412-443E-BAA7-84637F9010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78746-6480-447B-BB6F-E950DB7C6F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751AE-7BBE-4ACD-9DC1-4C60BAF8C3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DACBC-8080-4707-AF0D-7629255A27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DD0DA-C684-4BBA-8FD0-9C7152E318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2F6D4-2B50-483B-AB3C-D31D14E7F4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A325B-EC5F-45F7-BF3A-856498AB71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5C8C51-BEFE-45E5-880A-65E41768F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6BB5-59A1-4A8B-A303-1FB3071093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DB27C-7B53-4A65-B220-7059E552D6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5E6E-259E-42BF-82DC-FEA532DE2D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9DFD-EFC7-49F0-9344-35DD71F56C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525B-7DC4-48CD-93D2-7F0CBE0B03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CB8E-3680-4C3A-BCC8-E0B0915BB83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6CE0-1B3B-491C-8048-BBEA509B19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18760" y="736560"/>
            <a:ext cx="80391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F95B-31C0-4C40-8548-9E7C980FDFD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E279-0077-4BC7-9ABD-F23E79ACC4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33D0-8DE8-4B1D-9C0E-B10BB0F727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8384-7145-4A96-8F16-A896C0D58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1273-DF24-46F2-90B6-5413E0DEF74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FA4D-344A-4751-9586-F33DE6E7A3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203A-6783-4F1D-A0FF-80434C570C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7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55120" y="16462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876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7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55120" y="3516480"/>
            <a:ext cx="258840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8D2A-10C2-4B9E-8E11-DEB71FEED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240" y="35164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24E1-32FE-42F6-B480-1F34A053C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76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240" y="1646280"/>
            <a:ext cx="39229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760" y="3516480"/>
            <a:ext cx="80391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DA7E-34F3-455C-988F-B79616ACD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ottomborderfinal-04.tif"/>
          <p:cNvPicPr/>
          <p:nvPr/>
        </p:nvPicPr>
        <p:blipFill>
          <a:blip r:embed="rId2"/>
          <a:srcRect l="1153" t="0" r="0" b="0"/>
          <a:stretch/>
        </p:blipFill>
        <p:spPr>
          <a:xfrm>
            <a:off x="-69840" y="6045120"/>
            <a:ext cx="9220320" cy="82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93840" y="6465960"/>
            <a:ext cx="222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  |  Name, Position Title  |  Date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2035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1AD85-359E-4913-85E9-B454A46DF6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ottomborderfinal-04.tif"/>
          <p:cNvPicPr/>
          <p:nvPr/>
        </p:nvPicPr>
        <p:blipFill>
          <a:blip r:embed="rId2"/>
          <a:srcRect l="1153" t="0" r="0" b="0"/>
          <a:stretch/>
        </p:blipFill>
        <p:spPr>
          <a:xfrm>
            <a:off x="-69840" y="6045120"/>
            <a:ext cx="9220320" cy="82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93840" y="6465960"/>
            <a:ext cx="222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  |  Name, Position Title  |  Date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2035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8AA2C-526E-4F1D-98AF-3F88B37220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overfinal-01.tif"/>
          <p:cNvPicPr/>
          <p:nvPr/>
        </p:nvPicPr>
        <p:blipFill>
          <a:blip r:embed="rId2"/>
          <a:srcRect l="4505" t="0" r="0" b="0"/>
          <a:stretch/>
        </p:blipFill>
        <p:spPr>
          <a:xfrm>
            <a:off x="-96840" y="-262080"/>
            <a:ext cx="9536040" cy="713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logoplain-03.tif"/>
          <p:cNvPicPr/>
          <p:nvPr/>
        </p:nvPicPr>
        <p:blipFill>
          <a:blip r:embed="rId2"/>
          <a:stretch/>
        </p:blipFill>
        <p:spPr>
          <a:xfrm>
            <a:off x="7686720" y="1094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9"/>
          <p:cNvSpPr/>
          <p:nvPr/>
        </p:nvSpPr>
        <p:spPr>
          <a:xfrm>
            <a:off x="345960" y="6353280"/>
            <a:ext cx="8490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353520" y="6465960"/>
            <a:ext cx="222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Title  |  Name, Position Title  |  Date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67021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1CB07-4F2A-47FA-B07A-214A7DFF3ADC}" type="slidenum">
              <a:rPr b="0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ogoplain-03.tif"/>
          <p:cNvPicPr/>
          <p:nvPr/>
        </p:nvPicPr>
        <p:blipFill>
          <a:blip r:embed="rId2"/>
          <a:stretch/>
        </p:blipFill>
        <p:spPr>
          <a:xfrm>
            <a:off x="7686720" y="1094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7"/>
          </p:nvPr>
        </p:nvSpPr>
        <p:spPr>
          <a:xfrm>
            <a:off x="67021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E1E21-AC9F-4B05-AC60-B98F0C5DBE13}" type="slidenum">
              <a:rPr b="0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logoplain-03.tif"/>
          <p:cNvPicPr/>
          <p:nvPr/>
        </p:nvPicPr>
        <p:blipFill>
          <a:blip r:embed="rId2"/>
          <a:stretch/>
        </p:blipFill>
        <p:spPr>
          <a:xfrm>
            <a:off x="7686720" y="1094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04" name="Straight Connector 9"/>
          <p:cNvSpPr/>
          <p:nvPr/>
        </p:nvSpPr>
        <p:spPr>
          <a:xfrm>
            <a:off x="345960" y="6353280"/>
            <a:ext cx="8490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8760" y="73656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18760" y="1646280"/>
            <a:ext cx="80391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8"/>
          </p:nvPr>
        </p:nvSpPr>
        <p:spPr>
          <a:xfrm>
            <a:off x="345600" y="6465960"/>
            <a:ext cx="222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Title  |  Name, Position Title  |  Date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9"/>
          </p:nvPr>
        </p:nvSpPr>
        <p:spPr>
          <a:xfrm>
            <a:off x="6702120" y="6465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300AD-1DD0-4BE0-A887-0758EFB66BAB}" type="slidenum">
              <a:rPr b="0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coverfinal-01.tif"/>
          <p:cNvPicPr/>
          <p:nvPr/>
        </p:nvPicPr>
        <p:blipFill>
          <a:blip r:embed="rId1"/>
          <a:srcRect l="4505" t="0" r="0" b="0"/>
          <a:stretch/>
        </p:blipFill>
        <p:spPr>
          <a:xfrm>
            <a:off x="-366840" y="-262080"/>
            <a:ext cx="9536400" cy="713268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685800" y="14032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Annual Report on the performance of the Massachusetts health care syste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ubtitle 2"/>
          <p:cNvSpPr/>
          <p:nvPr/>
        </p:nvSpPr>
        <p:spPr>
          <a:xfrm>
            <a:off x="2057400" y="2039760"/>
            <a:ext cx="640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September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ubtitle 2"/>
          <p:cNvSpPr/>
          <p:nvPr/>
        </p:nvSpPr>
        <p:spPr>
          <a:xfrm>
            <a:off x="2057400" y="3386160"/>
            <a:ext cx="640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Arial"/>
              </a:rPr>
              <a:t>Chart 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icture 3"/>
          <p:cNvSpPr/>
          <p:nvPr/>
        </p:nvSpPr>
        <p:spPr>
          <a:xfrm>
            <a:off x="903240" y="1698480"/>
            <a:ext cx="733284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8280" y="6259680"/>
            <a:ext cx="4357800" cy="48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Growth in commercial medical spending has slowed in recent yea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Source: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" descr="CHIA-AR-GraphicDeck_082714_v6-Figure8-cmyk-o.png"/>
          <p:cNvPicPr/>
          <p:nvPr/>
        </p:nvPicPr>
        <p:blipFill>
          <a:blip r:embed="rId1"/>
          <a:stretch/>
        </p:blipFill>
        <p:spPr>
          <a:xfrm>
            <a:off x="744480" y="1623960"/>
            <a:ext cx="765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HIA-AR-GraphicDeck_082714_v6-Figure9-cmyk-o.png"/>
          <p:cNvPicPr/>
          <p:nvPr/>
        </p:nvPicPr>
        <p:blipFill>
          <a:blip r:embed="rId1"/>
          <a:stretch/>
        </p:blipFill>
        <p:spPr>
          <a:xfrm>
            <a:off x="1932120" y="368280"/>
            <a:ext cx="5268960" cy="45226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98280" y="5740560"/>
            <a:ext cx="4373640" cy="10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Hospital and Physician payments accounted for most medical spending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Other Professional includes payments generated from claims to health care providers for services provided by a licensed practitioner other than a physician. Other Medical includes payments generated from claims to health care providers for medical services not otherwise included in other categories, including skilled nursing and home health service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98280" y="5946840"/>
            <a:ext cx="4486320" cy="76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re was significant variation in payer medical expense trends from 2012 to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: HSA TME is not comparable across payers due to differences in risk adjust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tools. BMC and Network Health did not offer commercial health plans in 20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" descr="CHIA-Table 10.png"/>
          <p:cNvPicPr/>
          <p:nvPr/>
        </p:nvPicPr>
        <p:blipFill>
          <a:blip r:embed="rId1"/>
          <a:stretch/>
        </p:blipFill>
        <p:spPr>
          <a:xfrm>
            <a:off x="1082520" y="1270080"/>
            <a:ext cx="697896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CHIA-AR-GraphicDeck_082714_v6-Figure11-cmyk-o.png"/>
          <p:cNvPicPr/>
          <p:nvPr/>
        </p:nvPicPr>
        <p:blipFill>
          <a:blip r:embed="rId1"/>
          <a:stretch/>
        </p:blipFill>
        <p:spPr>
          <a:xfrm>
            <a:off x="463680" y="1449360"/>
            <a:ext cx="8134200" cy="34196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98280" y="5989680"/>
            <a:ext cx="4673880" cy="76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Physician Group medical expense trends varied statewide and across payer network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: Includes the largest physician groups in the major payers’ networks. T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reflects only patients attributed to a physician group (primarily HMO membership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HIA-AR-GraphicDeck_082714_v6-Figure12-cmyk.png"/>
          <p:cNvPicPr/>
          <p:nvPr/>
        </p:nvPicPr>
        <p:blipFill>
          <a:blip r:embed="rId1"/>
          <a:stretch/>
        </p:blipFill>
        <p:spPr>
          <a:xfrm>
            <a:off x="588960" y="1905120"/>
            <a:ext cx="7942320" cy="36907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04760" y="6080040"/>
            <a:ext cx="3998880" cy="672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About ten cents of every premium dollar went to non-medical spending,</a:t>
            </a:r>
            <a:br>
              <a:rPr sz="1000"/>
            </a:b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but surpluses were only a fraction of the remaind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Oliver Wyman analysis of submitted federal CCIIO data for eight payer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CHIA-AR-GraphicDeck_082714_v6-Figure13-cmyk_Figure 14.png"/>
          <p:cNvPicPr/>
          <p:nvPr/>
        </p:nvPicPr>
        <p:blipFill>
          <a:blip r:embed="rId1"/>
          <a:stretch/>
        </p:blipFill>
        <p:spPr>
          <a:xfrm>
            <a:off x="-330120" y="395280"/>
            <a:ext cx="9804240" cy="57531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142920" y="5692680"/>
            <a:ext cx="4494240" cy="1022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Medicare is the biggest public program, but MassHealth</a:t>
            </a:r>
            <a:br>
              <a:rPr sz="1000"/>
            </a:b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and Commonwealth Care together are nearly as lar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Other public health care program expenditures include Health Safety Net payments, Medical Security Program expenses and Veteran Affairs expenditures. By statute, Total Health Care Expenditures does not include non-medical expenses for public program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and other public sources. See Technical Appendix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HIA-AR-GraphicDeck_082714_v6-Figure14-cmyk-o.png"/>
          <p:cNvPicPr/>
          <p:nvPr/>
        </p:nvPicPr>
        <p:blipFill>
          <a:blip r:embed="rId1"/>
          <a:stretch/>
        </p:blipFill>
        <p:spPr>
          <a:xfrm>
            <a:off x="339840" y="1854360"/>
            <a:ext cx="8459640" cy="31446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98280" y="6072120"/>
            <a:ext cx="5311800" cy="64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MassHealth program expenditures have not grown as fast as general consumer pric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Blue Cross Blue Shield Foundation / Massachusetts Medicaid Policy Institute; Infl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data from Bureau of Labor Statistics: Consumer Price Index (CPI) Dat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CHIA-AR-GraphicDeck_082714_v6-Figure15-cmyk-o.png"/>
          <p:cNvPicPr/>
          <p:nvPr/>
        </p:nvPicPr>
        <p:blipFill>
          <a:blip r:embed="rId1"/>
          <a:stretch/>
        </p:blipFill>
        <p:spPr>
          <a:xfrm>
            <a:off x="561960" y="2171880"/>
            <a:ext cx="7994520" cy="25128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98280" y="6199200"/>
            <a:ext cx="531180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 proportion of members whose care was paid under APMs declined slightly in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HIA (payer-reported data); Catalyst for Payment Reform National Scorecard on Payment Reform, 201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1074600"/>
            <a:ext cx="80391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Fig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5640" y="1715760"/>
            <a:ext cx="88246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 by Payer Membership (2013) and Provider Payments (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Total Health Care Expenditure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Health Care Expenditures in Context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Insurance Expenditures (2012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Premium and Benefit Level Trends (2009 – 201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-Insured Market Premiums and Benefit Levels Relative to Statewide Average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Deductible Health Plans by Market Sector (2011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wide Total Medical Expenses PMPM (2010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tal Medical Expenses by Service Category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Status Adjusted Total Medical Expenses by Payer (2012 –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Physician Group Health Status Adjusted Total Medical Expense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Massachusetts Payer Retention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 Care Program Expenditure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Health Spending PMPM and Inflation Growth Rate (2005 – 201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Payer Use of Alternative Payment Methods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CHIA-AR-GraphicDeck_082714_v6-Figure1-cmyk-o.png"/>
          <p:cNvPicPr/>
          <p:nvPr/>
        </p:nvPicPr>
        <p:blipFill>
          <a:blip r:embed="rId1"/>
          <a:stretch/>
        </p:blipFill>
        <p:spPr>
          <a:xfrm>
            <a:off x="453960" y="1509840"/>
            <a:ext cx="8226360" cy="3294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90360" y="5925960"/>
            <a:ext cx="3907080" cy="81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 Massachusetts payer and provider markets are highly concentra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Harvard Pilgrim Health Care (HPHC) includes Health Plans Inc. membership. Some provider consolidation activity has occurred since this data was collect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CHIA-AR-GraphicDeck_083114_v7-Figure2-cmyk-o.png"/>
          <p:cNvPicPr/>
          <p:nvPr/>
        </p:nvPicPr>
        <p:blipFill>
          <a:blip r:embed="rId1"/>
          <a:stretch/>
        </p:blipFill>
        <p:spPr>
          <a:xfrm>
            <a:off x="1469880" y="642960"/>
            <a:ext cx="6189840" cy="55641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90360" y="96840"/>
            <a:ext cx="3735360" cy="68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Health care expenditures per Massachusetts resident w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$7,550 – an annual increase of +2.3%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 and other public sources. See Technical Appendix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Content Placeholder 1" descr="CHIA-AR-GraphicDeck_082714_v6-Figure3-cmyk-o.png"/>
          <p:cNvPicPr/>
          <p:nvPr/>
        </p:nvPicPr>
        <p:blipFill>
          <a:blip r:embed="rId1"/>
          <a:srcRect l="7849" t="0" r="7849" b="0"/>
          <a:stretch/>
        </p:blipFill>
        <p:spPr>
          <a:xfrm>
            <a:off x="449280" y="2111400"/>
            <a:ext cx="8039160" cy="35798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90360" y="96840"/>
            <a:ext cx="4659480" cy="95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otal Health Care Expenditures per capita grew by +2.3%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below the health care cost growth benchmark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and other public sources. Inflation data from Bureau of Labor Statistics: Consumer Price Index 12-Month Percent Change. Gross State Product data from U.S. Bureau of Economic Analysis: Widespread But Slower Growth in 2013: Advance 2013 and Revised 1997 – 2012 Statistics by GDP by St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HIA-AR-GraphicDeck_082714_v6-Figure4-cmyk-o.png"/>
          <p:cNvPicPr/>
          <p:nvPr/>
        </p:nvPicPr>
        <p:blipFill>
          <a:blip r:embed="rId1"/>
          <a:stretch/>
        </p:blipFill>
        <p:spPr>
          <a:xfrm>
            <a:off x="2236680" y="766800"/>
            <a:ext cx="4665600" cy="51354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90360" y="6064200"/>
            <a:ext cx="3584880" cy="699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Commercially insured medical spending grew +2.2% while</a:t>
            </a:r>
            <a:br>
              <a:rPr sz="1000"/>
            </a:b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non-medical expenses fel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Source: CHIA (payer-reported data) and actuarial estimate of non-data file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CHIA-AR-GraphicDeck_082714_v6-Figure5-cmyk-o.png"/>
          <p:cNvPicPr/>
          <p:nvPr/>
        </p:nvPicPr>
        <p:blipFill>
          <a:blip r:embed="rId1"/>
          <a:stretch/>
        </p:blipFill>
        <p:spPr>
          <a:xfrm>
            <a:off x="268200" y="1390680"/>
            <a:ext cx="8632800" cy="34401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104760" y="5979960"/>
            <a:ext cx="4427640" cy="78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Premiums and benefit levels held steady in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Benefit levels measured by average actuarial values (not shown). 2009-10 data does not include CIGNA and WellPoint; this does not materially impact overall market trend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CHIA-AR-GraphicDeck_082714_v6-Figure6-cmyk-o.png"/>
          <p:cNvPicPr/>
          <p:nvPr/>
        </p:nvPicPr>
        <p:blipFill>
          <a:blip r:embed="rId1"/>
          <a:stretch/>
        </p:blipFill>
        <p:spPr>
          <a:xfrm>
            <a:off x="1846440" y="620640"/>
            <a:ext cx="5446440" cy="48196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142920" y="5921280"/>
            <a:ext cx="4697280" cy="794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The larger plans had higher premiums in 2013, but their benefit levels were also high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900" spc="-1" strike="noStrike">
                <a:solidFill>
                  <a:srgbClr val="7f7f7f"/>
                </a:solidFill>
                <a:latin typeface="Calibri"/>
              </a:rPr>
              <a:t> Benefit levels measured by average actuarial values. WellPoint and CIGNA excluded from the figure due to low fully-insured populations. Square size reflects fully-insured enrollmen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9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icture 3"/>
          <p:cNvSpPr/>
          <p:nvPr/>
        </p:nvSpPr>
        <p:spPr>
          <a:xfrm>
            <a:off x="1114560" y="1530360"/>
            <a:ext cx="691200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90360" y="5735520"/>
            <a:ext cx="4027680" cy="10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436e"/>
                </a:solidFill>
                <a:latin typeface="Calibri"/>
              </a:rPr>
              <a:t>Enrollment in High-Deductible Health Plans continued to increase in 2013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Notes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HDHPs were defined within this report as plans meeting IRS deductible levels. HDHP IRS standard deductible levels were $1,200 in 2011-12 and $1,250 in 2013. Figure shows membership of market sectors as of 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Source: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CHIA (payer-reported dat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1" descr="CHIA-AR-GraphicDeck_082714_v6-Figure7-cmyk-o.png"/>
          <p:cNvPicPr/>
          <p:nvPr/>
        </p:nvPicPr>
        <p:blipFill>
          <a:blip r:embed="rId1"/>
          <a:stretch/>
        </p:blipFill>
        <p:spPr>
          <a:xfrm>
            <a:off x="1263600" y="1270080"/>
            <a:ext cx="64645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7:39:10Z</dcterms:created>
  <dc:creator>Caitlin Sullivan</dc:creator>
  <dc:description/>
  <cp:keywords/>
  <dc:language>en-US</dc:language>
  <cp:lastModifiedBy>Casey B Kincheloe</cp:lastModifiedBy>
  <cp:lastPrinted>2014-09-02T11:13:30Z</cp:lastPrinted>
  <dcterms:modified xsi:type="dcterms:W3CDTF">2014-09-02T12:25:17Z</dcterms:modified>
  <cp:revision>25</cp:revision>
  <dc:subject/>
  <dc:title>PowerPoint Presentation</dc:title>
</cp:coreProperties>
</file>